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F4A-72F9-4747-BB5A-BFE7836E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FB3-7EF5-4D4D-A7DA-9CDC7D7F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FF6-BDD5-4661-BB9A-4349CFF0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16E-920B-471E-A297-C3F5CD84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789-B501-48C3-A2AE-1A752FC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A7C-CDDE-4FBE-89C4-73C46F8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F78-C973-4EC7-B3A8-AA2B541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FA3-7D5A-4202-83E7-602276B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2C5-38D5-41E7-9B27-762A410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218-8694-4D95-812A-B8E4523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DB7-241E-4C5F-95C7-9E39558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902-56D7-46F5-B037-9B362A8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9E86-8E5A-4366-A442-0B5D791B3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 RUSSIAS PAST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an Drisc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e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Rev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04:33Z</dcterms:created>
  <dc:creator> </dc:creator>
  <dc:description/>
  <dc:language>en-US</dc:language>
  <cp:lastModifiedBy> </cp:lastModifiedBy>
  <dcterms:modified xsi:type="dcterms:W3CDTF">2010-12-14T14:29:07Z</dcterms:modified>
  <cp:revision>2</cp:revision>
  <dc:subject/>
  <dc:title>Slide 1</dc:title>
</cp:coreProperties>
</file>